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BA7D9-4C25-45AC-ABA5-46579744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40703-1713-4DB9-9863-0B1341FC0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C4142-5727-468E-9B5D-F633E52CB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F579B-8F43-4C8C-927D-CE26AC33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646D-53DB-4E8D-B8C3-BECB129F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4926-EEA3-4C14-BE50-53085B13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2FDF-0FCD-4B35-BF4A-E234FC08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8620-CC85-4C0A-A556-AC4AF9ABE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95CC7-A20C-4E64-A050-5B7D7D1D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2C524-C840-4904-A2F9-CB0513D8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C10B-ADBA-4D7D-BFA9-C159B2DB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B790E-DAF7-4059-BBBD-015AF278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88B0-D71B-4443-AFDD-EE5452DC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D733-74B9-4ADC-AF52-F254B24C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8947-2DFD-4370-8F38-F1B96CF5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C5C5-8613-42EE-9D6F-DAE97186F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ED2B-B756-4C26-B97C-7B8345EC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2167C-0469-438F-9D20-0476FADD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E1B52-48ED-40C3-BAC9-E49BA889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480D4-4365-4714-A6EB-9AE108EE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DB90-7AF1-4EDE-9A02-8D69B2C8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D95F6-2936-43BF-A61B-76565EBF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01B2A-9F79-4CA2-871B-7108FE7B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EBD29-DC48-4881-85A1-B1F59057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ant Grove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2DC8-73B1-44B6-A4A2-0A61B27877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asant Grove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0384-136D-4454-84A1-DAAD6BA5B3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Operating System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mputer Technolog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ay 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UI (Graphical User Interfa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ype of user interface that features on-screen objects, such as menus and icons, manipulated by a mo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 is pronounced “gooey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1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detailed, step-by-step instructions that tell a computer how to solve a problem or carry out a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computer programs that help a person carry out a ta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3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8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3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8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cation on a network that is set aside for the collection of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ubdirectory or subdivision, of a drive that can contain files or other fol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amed collection of data that exists on a storage medi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5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0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85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00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ons, June Jamrich, and Dan Oja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uter Concep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Boston: Course Technology - Thompson Learning, 200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ment of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14600" y="1905120"/>
            <a:ext cx="4067280" cy="41907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ration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vacuum tub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uum tubes are electronic devices that control the flow of electr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no operating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custom application programs, which were made for the specific task that the computer was to perfor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ructions were necessary for every aspect of the computing job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386160" cy="2377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7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2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2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eneration compute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ransist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istors performed functions similar to vacuum tubes, but they were smaller, cheaper, less power-hungry, and more reli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 programming language compil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English like commands rather than binary nu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it possible to develop soft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2472" r="0" b="6118"/>
          <a:stretch/>
        </p:blipFill>
        <p:spPr>
          <a:xfrm>
            <a:off x="5203800" y="2314440"/>
            <a:ext cx="2925720" cy="32194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3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4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49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5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ration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tegrated circu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computers were introduc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and less powerful than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puters, but had the ability to run multiple programs for multiple users simultaneous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4281480" cy="2711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eneration comp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general-purpose microprocess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ystems were smaller, faster, and less expensive than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pu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3809880"/>
            <a:ext cx="4245120" cy="23958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83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rating System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 controller for all activities that take place within a computer; primary purpose is to help the computer system monitor itself in order to function efficien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s with application software, device drivers, and hardware to manage a computer’s resour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that input and output proceed in an orderly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0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5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0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ying hardware and software of the computer syst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pular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1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tas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ning more than one program at a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ing sure that the instructions and data from one area of memory don’t interfere with memory allocated for other progra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9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6:13:29Z</dcterms:created>
  <dc:creator>Michelle Guymon</dc:creator>
  <dc:description/>
  <dc:language>en-US</dc:language>
  <cp:lastModifiedBy>Larry Phelps</cp:lastModifiedBy>
  <dcterms:modified xsi:type="dcterms:W3CDTF">2004-09-07T16:54:15Z</dcterms:modified>
  <cp:revision>25</cp:revision>
  <dc:subject/>
  <dc:title>Operating Systems</dc:title>
</cp:coreProperties>
</file>